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6C3-E2C5-43F9-BE3C-6FE90A82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29A-4B50-4513-81A3-C9163A05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A44A3-C615-4545-AD42-B8B374D5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E211E-B0CD-4594-93A8-721F669B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B413E-17F6-4DD7-8922-B835940D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51A66-680E-4DA1-A34D-314C41C4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6D437-C046-4E89-B166-4EE0504F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C97E2-F5A3-4E9E-A8A9-C29E466F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357F7-2696-4328-B762-F313663E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962C0-63E9-4D5F-8955-F63FFC02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5D8FD-3B48-4C15-9983-7CC8CD69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A9BFE-DD18-4F29-9ED1-F352F783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E75-DFDA-4CB0-AE10-A33897B9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FE801-E6A8-437A-BD00-7CBE32AA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400B3-D268-4D46-BDD7-FD92DC96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3BA2B-9775-4D1C-83D6-2BFFAAFF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46005-0B04-4A51-AFF8-1FA1EA06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06EF4-CAD8-45EB-AEA0-C7EBC7B5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22158-C114-4FC2-852C-0C9C6F8D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CE1E1-8C8F-4B60-BE49-79E75FA1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724BD-C2E3-45BD-8ECC-8BB18162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0213A-92C4-4EED-9EB8-7631CF4C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1DBE9-A630-4F12-9FB5-F1B8F10F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4C1-8927-4616-91A6-600E91FA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1A709-D227-4446-BC36-BB4C8219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6DECD-1692-4F6F-B599-F20CC061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A5DF6-0B56-4469-8791-45DCC448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81A01-5F1A-4E3B-806B-99DF113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6BA30-585C-4889-BD63-2D21840D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8CE34-EA39-45DD-9843-EB4B290A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4F521-7266-40D7-9133-9C3EBBA3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0B655-2A8B-45F9-89AF-52F0B089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E21DE-D86E-452E-93C6-15C3806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19DA3-9453-4C66-AB27-6242A14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0110-9E8E-44A8-BBC8-2A82149B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E35AB-F409-4965-986E-C9F83737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E4D86-476B-4E68-AB17-B87FD357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4C30B-03D4-41F9-AC24-106F88E0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527F2-552C-48AF-9886-381703C6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C216D-217E-4332-B65F-C4B85A6B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3837C-E4B0-46DC-BEFC-A4991171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71ECB-2478-4A8C-A76C-56DBEE0A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8114A-F8ED-4B10-90DE-09BB4B80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2066A-F6B5-4273-A9D8-6D116DA7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5B92C-B9AA-423B-A471-B5C81C9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78B2-D4C4-482E-979E-88272993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0B080-1269-4290-B09C-7C8D1029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2FA04-3B21-4335-BB8B-B01EBA9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920EB-89B8-40D0-B799-4150E984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90EAE-F71A-493F-AE88-1D833392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855B0-E391-4791-8E7A-8752822E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79CD7-98FB-43FF-AE22-45AA655A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0C0E7-26BA-437B-A50A-5164B029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2D965-DE9E-459C-B14B-B2F85920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28DB5-AA6E-44A1-B980-B4DD21C5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F2211-8D15-4F86-85D6-D64A5540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436A-6A23-48C3-B986-AC8B779F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59992-D1BD-443E-B2C8-AD91953D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0B314-1129-4ADF-9A6C-084DBCC8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BB5B1-EF61-465C-8C01-B9C7284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BFA27-38EA-4ED9-B900-3C09FF26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323B3-D696-4E86-8163-FD8CD5D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1305F-6D9F-4D01-9B9B-FF1F70CB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906DE-AE7D-40C8-80A7-0D4876FF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1A094-F7F7-474B-BEFA-2E699941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CBF08-D6C4-43C6-9C41-E2CB40FD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C0E9A-BAE1-4B62-B085-6A28906F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A47A-A3E4-42D0-A88D-F93D8998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E2000-F4B3-46E7-9547-88966E88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355E3-8EAB-48D9-976F-438D816A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E6CC5-E38D-4514-9606-F2BA6AB0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6CE23-13F0-4D5A-AF3C-8AF23A14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9C767-B4AF-47EC-B1A0-272C651F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D5907-D188-47E9-B7F8-69EB8DBA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E9566-D6C2-4D75-B8D0-811E44B7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76F84-C76B-4CD7-97C1-8D2B52A8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45BA9-8DDC-4E11-B514-08B7E269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ADA39-1B2B-4E00-BBAA-348214AC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1A0F-AB73-457A-A06D-F0F8BBDB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0BFC7-F01C-472F-8590-E534C085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C1B7F-5ACB-4F80-837F-3C32AF56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0859F-E740-41CC-A6BF-945443F8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000A2-3547-4F73-8BC7-ECFA1BE1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3B10B-605D-4CE8-8C96-143BF58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B3C18-5D6A-4ADC-A9BE-22EF6C1F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36CC5-3F96-4BE7-8A93-209BCFC4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42E85-B472-4526-AB75-D1DE1794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63A67-3031-4177-90BE-D54C1B62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C93B1-BBB0-423A-93A7-7DA1FC2E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7B53-DDA2-4FD7-A7BA-0E7A0735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299CA-B770-416F-B07B-3D2BFCBD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B441E-840F-40F3-A58B-DDC4E785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AD30A-5002-43D8-9C63-D0ECD82D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28743-4507-432D-86F5-B832F49B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F10EA-E67C-4E67-AEE5-BC1A35F4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5EA2D-E409-47C8-BB64-E4A44FE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AAA3E-BF90-4064-AA61-26D4754C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F9B5C-3304-4041-B90F-05E4E099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C2E36-3C96-42FC-8C2B-0C997141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CA1A9-50A7-4057-8938-A7E43BFB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EA0A-C8C7-4C62-9B5A-A32E037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4A03A-F6AD-4FFB-89CB-120BBFAA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B9BD7-0A40-461B-9AA4-C32E658E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71FC5D-3F51-42D0-BEBB-C116B147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3E70A-707D-4E37-986D-B2580A55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6EA00-0BB3-41EB-ADE2-ABE52084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416D2-B38A-48A7-9B99-29FFFCE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9B6ED-3C74-4972-B208-F59E3DE9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4BF621-ADC6-4009-AF51-7305CAE8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362CE-972F-4F00-8CAD-5F788CF3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039C4-BC61-4F00-B816-7F7577E9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622-4D1B-4A48-B2D5-0238A639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B184-120F-4C4F-BB01-8986403C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8FA46-15F8-4B1E-8051-8B8319D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0C3089-F5C7-43A6-90F6-091B15A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31411-7FAF-4D23-BAED-C644AEA6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9E7B1-BC4B-4D89-8A89-5A42EFA4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955E2-DDA1-4F3A-858B-6057E7F8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DEC7E-78F4-4704-898A-3FC17806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D1D3F-B564-4A6F-8914-9620BF31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8C379-124D-47A0-B111-A2CF2AE4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3558E-1CDC-48BA-B78D-242CD75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27AA29-7CF2-413B-8FA2-87523F15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E0D-0291-4E8C-B18A-12BBD02F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F8D4A-9E25-4E62-B181-EC1330F2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F50EA-FB76-4B4A-AD8F-ABF9834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52AD5-0E94-42EC-998B-E662316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DF2BFA-B86D-4F95-81A1-AF505865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4A9715-48C6-4A01-9C2A-9647B40E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2C77D-B06A-4C2D-A845-087CE559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D63F2-1820-4631-82A1-413A85A1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9B6F7-8FBC-412A-BBB4-9C88CDEB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D8D67C-584B-4B45-AC24-40EE573A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39B0D-A9E1-4715-A290-8E292A93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3FA9-C7C5-45EE-9577-1BF9BE34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F96FA-41C2-452D-99EB-9C416ABD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64E8B-326E-4FBA-BF56-196262E6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B50DD-015C-4E24-ABE1-5AA7F96D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3F712-A91D-4985-AEBD-C2A2ED68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E9DCB1-AF8B-48F3-A152-DAAF512A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E0616-4129-48F7-B9B9-9769E00C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21981E-5FB5-4063-BA08-5FD48DCC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CD2B2-DEBA-4D4F-B9DE-41F40257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B03D1-60CB-4816-945A-7052C5BB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198D7-173B-4DA0-B33C-47E024A8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0124-78DE-4CE7-82E5-96A42292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6AB2C-5348-4FB6-A255-51111C52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D5134-0D95-407E-BC48-19A2126E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E2E95-F21C-48F4-A61A-3949A4AB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EF352-86AD-4AD0-8968-4B2A2665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92B517-8458-4447-AEE4-D60915C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013F1F-409E-462A-8605-85DDD392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466498-AA18-4511-91E9-56A78CCA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DAF50-9A52-4740-A801-E302B4BC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639FA0-E7AB-44C9-9F71-6D4C93DB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C7D427-6CB9-4091-900C-E18FD163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7A88-5D11-43EE-BD90-F5CCFFDD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80B37-C83E-44A4-A799-FAEEF72C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5FF6C4-4353-46D0-911F-C3B1C06E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6E229-8495-48EB-960A-A6D7EE19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9B607-66F5-4253-BD27-2CD5FF4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5F9EBF-0C39-4166-8490-D36224F0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3F8B6-DE31-4732-B8AD-89DCAFFB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C79D6-FE7B-43AE-97F9-CFBA3DA8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67F5B-1D53-437D-8DD1-53402219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64DB6-BDB6-48F4-80E5-013C866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117680-0AF1-4E34-A912-D8E84C35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2151-8F4C-43A2-9881-9DF5F0A9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69BAB-1A47-44A4-A78E-8C218B6A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14A41-B1A7-4AE5-9669-8C9BB786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3447DE-3386-4299-BC98-38B3DC04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DDEB-8346-4DA1-8818-FA377DC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ABE5-D383-499B-B72B-4C97FC78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3B08-7703-42FF-9FDC-A8A07381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5114-E6FE-406F-B58E-F645A5A3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EFA-E69C-4508-A2A0-E2D6BE95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652D-EB75-460A-B453-0C9BFDCB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7EAF-0CC7-4A40-8C74-89F4E07C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783D-0A98-455C-BA3D-DE661CF5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E427-9F65-4219-BBF3-F451B7EC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6BAB-3A75-4A92-B178-D6DB1C03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EBCE-8785-4BD1-BDC9-8FE63AEB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D475-E38A-4983-BA54-B0547C06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2302-B22D-4AB9-AB08-885C693B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8771-32C1-4B99-82ED-DDB97C19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01E0-B88B-420D-BF51-C12961EF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A43-A726-40DD-A074-845A130E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3CFC-60D2-4C31-B352-7409A4EA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DF0A-8936-4723-A22E-204EEAC1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9B371-2797-41CB-957B-1FE3B906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FEE2-53E6-46D7-B9CA-7B889179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C03E-E319-4CBF-BC7B-9BC013CC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06C0A-21D1-42E0-9F4A-F2D9600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E1E9-D066-43EA-8A6E-A0276AE0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5B96-D0EE-460F-8650-BDF65A9E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9BEA-CEF4-4EB4-A321-614A6BAC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78FB9-1919-4475-B04F-EAF535F3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2D3-03DB-4876-89B2-05F61D8B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254B1-057A-4611-85A6-05217090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E8B56-AE4C-4DE5-9089-397CBD97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90B0D-4214-4DE5-8DD8-29DA8BB0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2DBE2-C81E-4D6A-AB4C-72AB3383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3EE43-6135-49F7-A740-B1A9F927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5148C-BE84-4982-8F81-D5126B8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B23D4-86DE-4074-8432-B42DA3D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5D7E-6DDF-4490-8CFA-A3F4D87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12620-BB40-4CCA-AC92-43F75326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3C62-3821-4A6F-AF87-6FE0C5F5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559-2FA5-4E39-A53F-4D925550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C4699-F0CE-4EF9-B83C-F0E1876B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F96E5-3411-4832-8126-E2183046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BD327-520A-46C1-980C-B1F2B24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F8294-83A8-4760-9C27-CD0B9930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73270-A44C-4715-ADEE-2004005C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A831-8B04-4F0E-B660-5B21F018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DA8E3-FAAC-4518-84C4-703BC405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C7663-1DB3-4869-A416-A8E75DF4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F201-9D96-49A1-8F82-228F252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51CC1-3022-4D57-A963-AFEB8026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8E3-9264-4A4E-B667-1018B0D7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CDA8-BB61-49EA-B2DC-FA9E7636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B6FEF-ED3E-41A6-8A1B-C345D964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2607-9E28-4CBF-BEC7-CD100341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A1FF0-F1E6-4B04-9219-A2C53814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D1BB0-788B-4D78-BEEA-1B1071AC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6D94-8F13-421E-85CB-8F639D10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526E9-C581-4871-A990-FCACD89F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E9919-D00D-4AEE-A7B7-AF49DF97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8D159-3510-474B-BBAF-2059AAF4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A6DFA-3EF1-47A1-ACDD-562D373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870-6B50-4609-BEED-0D88661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226C2-9D93-4B14-BE08-CC1F8F6C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AE78-047D-433D-86A7-09261C35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31C62-7E81-47E4-A145-7D835573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46718-EB6E-4B10-BF6F-D849E34A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AF7CE-BC3F-46ED-8DBF-DEC41F68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CC718-9459-477F-8B6A-46CB022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EF376-9D22-496E-824F-0FD9848C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CD98-ED3D-4EEF-B97F-736A0ECD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89D15-D175-4D1B-9978-44A9150A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2EC22-085D-4AF0-A448-D90ECE6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8C6-2C1C-4186-B7F8-9381215A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93A0-D9C6-412E-8EC6-CDEC9736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CE158-68FC-4E9B-BC4F-C3ECCC6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A0368-117C-4FA9-98FE-19E84E5B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C41BA-2713-45B0-98D8-D44B73D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FEF4-0222-448C-B9BB-6C414D01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C8F86-4B09-4531-9F7C-37082D1A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CB634-C98A-4775-840F-1B2712C3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F2B7B-39C3-4E73-BFC9-6E694027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18AE6-5B5E-4EB9-895C-F2487F48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4FF55-A81B-4AC7-9020-54F7E79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68C5-F2B6-4D33-8EBC-AE811A260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5F63-7B15-43A8-BF01-E032076AC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A562-C181-494C-A16E-DBEBB2DA1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E8E7-0382-4DA2-8268-99A363352D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DECF-3818-4646-9912-02F8F4C61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A054-3F01-4ED4-B6CF-07EDF97533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C09-F63E-4D85-9476-4E068342D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F8FE-44D9-4F24-AB42-E5C7106A23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4A67-A5F9-4CF9-84DD-B6EAA7B713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CA1-D1D3-49FD-9019-A249E679B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3D1E-EB6F-434D-91B4-FAF513DED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6E20-D1D0-4D94-B9E9-5C690A98C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FAB1-FC0D-4F98-8ECE-FE912E59B6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C0B8-8778-4CA8-BB0E-052828DB80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C332-C814-4D7A-AA0C-C75893F151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C3B1-69B9-4F5B-92DA-99A148594D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0EF9-929D-40A8-B2CB-E63F5DFF1E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DA6-D041-4C35-88CC-66808EFBD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A36-C5F7-4431-A50F-A82A679F9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6B5C-4FCD-4586-9334-C7D8D4CD5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596B-BAD5-4345-846A-9035D606EF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DE88-77CE-4986-8AD8-DFA0B1C27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8D60-F91E-4C2A-B6E3-D9415159E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7E5-71C8-4D68-9B41-12B55EDE45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2319-4C28-4864-ACF9-20772C073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5300-1427-40E6-8AB1-C27B1F087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1FBF-616B-49C4-83E5-83C3FDC9FB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8577-CDF5-438B-9503-4A7C4E090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E835-F2CD-493F-91D3-8D243BBAE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5130-6388-4BC8-A50F-9DB2538C4E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865A-2547-4237-86BC-E643AA7D21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1A58-8512-48CD-A90C-3C17298A6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6771-9413-43A9-B879-F2FEABD39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38A5-E52D-4314-96D8-228B82225F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ADDD-7300-4536-90FF-665EC84C66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3032-D400-4851-87D8-3616552891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2877-C800-4857-A95F-F02CB34C2A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216A-A1D7-4AE0-9A77-1F7D7CEDB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492B-ABEB-40DF-8F67-F2AA59B79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D3E5-6887-4D6D-8589-CF032644D3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90440" y="3090960"/>
            <a:ext cx="87631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248680" cy="57718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71476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134200" cy="57243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92880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271476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928800" y="4429080"/>
            <a:ext cx="57132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461880" y="1076400"/>
            <a:ext cx="8220240" cy="470520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928800" y="114300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928800" y="342900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486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3" descr=""/>
          <p:cNvPicPr/>
          <p:nvPr/>
        </p:nvPicPr>
        <p:blipFill>
          <a:blip r:embed="rId1"/>
          <a:stretch/>
        </p:blipFill>
        <p:spPr>
          <a:xfrm>
            <a:off x="538200" y="1066680"/>
            <a:ext cx="8067600" cy="4724640"/>
          </a:xfrm>
          <a:prstGeom prst="rect">
            <a:avLst/>
          </a:prstGeom>
          <a:ln w="0">
            <a:noFill/>
          </a:ln>
        </p:spPr>
      </p:pic>
      <p:sp>
        <p:nvSpPr>
          <p:cNvPr id="1034" name="矩形 2"/>
          <p:cNvSpPr/>
          <p:nvPr/>
        </p:nvSpPr>
        <p:spPr>
          <a:xfrm>
            <a:off x="1000080" y="1714680"/>
            <a:ext cx="42876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3"/>
          <p:cNvSpPr/>
          <p:nvPr/>
        </p:nvSpPr>
        <p:spPr>
          <a:xfrm>
            <a:off x="1000080" y="235728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4"/>
          <p:cNvSpPr/>
          <p:nvPr/>
        </p:nvSpPr>
        <p:spPr>
          <a:xfrm>
            <a:off x="1000080" y="292896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5"/>
          <p:cNvSpPr/>
          <p:nvPr/>
        </p:nvSpPr>
        <p:spPr>
          <a:xfrm>
            <a:off x="1000080" y="407196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6"/>
          <p:cNvSpPr/>
          <p:nvPr/>
        </p:nvSpPr>
        <p:spPr>
          <a:xfrm>
            <a:off x="1000080" y="464328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2864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3" descr=""/>
          <p:cNvPicPr/>
          <p:nvPr/>
        </p:nvPicPr>
        <p:blipFill>
          <a:blip r:embed="rId1"/>
          <a:stretch/>
        </p:blipFill>
        <p:spPr>
          <a:xfrm>
            <a:off x="500040" y="1481040"/>
            <a:ext cx="81439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"/>
          <p:cNvPicPr/>
          <p:nvPr/>
        </p:nvPicPr>
        <p:blipFill>
          <a:blip r:embed="rId1"/>
          <a:stretch/>
        </p:blipFill>
        <p:spPr>
          <a:xfrm>
            <a:off x="1214280" y="733320"/>
            <a:ext cx="6677280" cy="612468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4286160" y="1000080"/>
            <a:ext cx="71460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4229280" y="1496880"/>
            <a:ext cx="11887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4286160" y="1928880"/>
            <a:ext cx="1000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6929280" y="1500120"/>
            <a:ext cx="843120" cy="271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"/>
          <p:cNvSpPr/>
          <p:nvPr/>
        </p:nvSpPr>
        <p:spPr>
          <a:xfrm>
            <a:off x="3214800" y="2786040"/>
            <a:ext cx="6429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"/>
          <p:cNvSpPr/>
          <p:nvPr/>
        </p:nvSpPr>
        <p:spPr>
          <a:xfrm>
            <a:off x="1571760" y="3857760"/>
            <a:ext cx="11430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9"/>
          <p:cNvSpPr/>
          <p:nvPr/>
        </p:nvSpPr>
        <p:spPr>
          <a:xfrm>
            <a:off x="3178080" y="5000760"/>
            <a:ext cx="6796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0"/>
          <p:cNvSpPr/>
          <p:nvPr/>
        </p:nvSpPr>
        <p:spPr>
          <a:xfrm>
            <a:off x="4572000" y="4800600"/>
            <a:ext cx="6429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1"/>
          <p:cNvSpPr/>
          <p:nvPr/>
        </p:nvSpPr>
        <p:spPr>
          <a:xfrm>
            <a:off x="4643280" y="5286240"/>
            <a:ext cx="714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2"/>
          <p:cNvSpPr/>
          <p:nvPr/>
        </p:nvSpPr>
        <p:spPr>
          <a:xfrm>
            <a:off x="1714680" y="5857920"/>
            <a:ext cx="971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3"/>
          <p:cNvSpPr/>
          <p:nvPr/>
        </p:nvSpPr>
        <p:spPr>
          <a:xfrm>
            <a:off x="1785960" y="6286680"/>
            <a:ext cx="9460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4"/>
          <p:cNvSpPr/>
          <p:nvPr/>
        </p:nvSpPr>
        <p:spPr>
          <a:xfrm>
            <a:off x="5786280" y="5786280"/>
            <a:ext cx="78588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5"/>
          <p:cNvSpPr/>
          <p:nvPr/>
        </p:nvSpPr>
        <p:spPr>
          <a:xfrm>
            <a:off x="5794200" y="6278400"/>
            <a:ext cx="7779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5:4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